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0FD-B593-4114-80E0-615847C9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C9-6286-4BB1-A197-B1AD381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A2E-6144-444E-9718-33E352DC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D2C-156E-426A-8933-260077FD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A05-A91B-4579-AC6B-D13F1C07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E03-4E37-4322-B237-4F97342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AAD-7547-4E55-BE49-96725F2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1E3-621D-4685-8AE0-C8A8E34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2DD-3A86-4896-BC9C-AFAEBC8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6C8-F5F3-4FE5-920C-0926247B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5D8-7F90-4F64-8500-E3FF4D3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D9F-2015-4B9E-AED2-D0AF5FC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5D5-C816-4D62-8AF2-816DEF9D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4582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4582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91960"/>
            <a:ext cx="89154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91960"/>
            <a:ext cx="89154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28:02Z</dcterms:created>
  <dc:creator>Patrick Mooney</dc:creator>
  <dc:description/>
  <dc:language>en-US</dc:language>
  <cp:lastModifiedBy>Patrick Mooney</cp:lastModifiedBy>
  <dcterms:modified xsi:type="dcterms:W3CDTF">2009-03-30T18:44:08Z</dcterms:modified>
  <cp:revision>2</cp:revision>
  <dc:subject/>
  <dc:title>Slide 1</dc:title>
</cp:coreProperties>
</file>